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2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C490A-995C-4A87-9480-7B186111DF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EF406-99A2-4DEC-B84D-9965B40792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61CB-F1E1-426C-B62A-7CCA6F61D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03EB-A046-4201-951F-A95985F34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4BB7-DD08-4976-BE99-4555321A3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C1AF-B728-4BC9-9156-70AF85314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ED89-4A6B-4542-BE3D-0BECD07AA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1129-9EE0-4651-9C3D-87DAC89FC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7960-6E38-41AB-AB77-341B50E49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568E-00E6-4AB1-A07B-3C6529D34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DFA3-3945-4BB6-A2EA-FB5E4E5AF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590B-C30D-4406-A844-F6C3A6666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343A-F295-4298-BEAA-BEC588E64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4250-FA20-4264-B2A6-1A2298CAE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BF648D-DC49-4D03-9E47-C815B605C327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5F2EE087-8E56-413B-AA70-0B6D10C3C543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4360" y="142884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Doe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Samen met andere expert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Inhoudelijk (door)ontwikkelen RSGB /RGBZ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 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onderdelen en bijbehorende document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Voorbereiden van de releaseplan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Verantwoordelijkhed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Beoordelen ingediende wijzigingsaanvragen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uitwerken ervan in RFC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1714680" y="28584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ed0c8b"/>
                </a:solidFill>
                <a:latin typeface="Verdana"/>
              </a:rPr>
              <a:t>Doel &amp; Verantwoord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el 1"/>
          <p:cNvSpPr/>
          <p:nvPr/>
        </p:nvSpPr>
        <p:spPr>
          <a:xfrm>
            <a:off x="1714680" y="28584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ed0c8b"/>
                </a:solidFill>
                <a:latin typeface="Verdana"/>
              </a:rPr>
              <a:t>Onderwer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84360" y="142884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inrichten beheer RSGB / RGB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goedkeuren RSGB / RGBZ 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vervolgacties n.a.v.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harmonisatie STUF – N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Impact nieuwe versies basisregistra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(NHR, WOZ, MGB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doorontwikkeling RGBZ+ (klantcontacte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behandelen RFC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Ellen Debats</dc:creator>
  <dc:description/>
  <dc:language>en-US</dc:language>
  <cp:lastModifiedBy>Debat_E</cp:lastModifiedBy>
  <dcterms:modified xsi:type="dcterms:W3CDTF">2010-09-09T07:52:17Z</dcterms:modified>
  <cp:revision>76</cp:revision>
  <dc:subject/>
  <dc:title>startbijeenkomst expertgroep informatiemodellen</dc:title>
</cp:coreProperties>
</file>